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BC4-A4F8-402B-AEAA-1053C492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39585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200-0FCF-434B-B058-E8D3E7A8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284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B5E-48DC-472F-AE64-31A6675A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85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39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85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39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95F-C263-4D7C-AADC-24A55ED1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00E-BF8B-4A75-B0EA-5C9B8556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FBA-5E31-4F47-9761-C8018168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CB4-1DC6-4C4B-995A-83D21546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3A2-36F4-4727-B6F2-9B2700D5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680760"/>
            <a:ext cx="716292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594-F1CA-42B8-9949-7A8A2B94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561B-F144-4D85-8821-9134379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284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22A-F26F-43EF-A74A-3F0B8E42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462-D75F-4AB9-883B-56B3ACC6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1EF3-4048-45FC-90A7-D4EF21C1C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8760" y="139680"/>
            <a:ext cx="8826480" cy="6578640"/>
            <a:chOff x="158760" y="139680"/>
            <a:chExt cx="8826480" cy="6578640"/>
          </a:xfrm>
        </p:grpSpPr>
        <p:sp>
          <p:nvSpPr>
            <p:cNvPr id="4" name=""/>
            <p:cNvSpPr/>
            <p:nvPr/>
          </p:nvSpPr>
          <p:spPr>
            <a:xfrm>
              <a:off x="158760" y="139680"/>
              <a:ext cx="8826480" cy="6578640"/>
            </a:xfrm>
            <a:prstGeom prst="rect">
              <a:avLst/>
            </a:prstGeom>
            <a:gradFill rotWithShape="0">
              <a:gsLst>
                <a:gs pos="0">
                  <a:srgbClr val="3251b1"/>
                </a:gs>
                <a:gs pos="50000">
                  <a:srgbClr val="00279f"/>
                </a:gs>
                <a:gs pos="100000">
                  <a:srgbClr val="3251b1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6600" y="291960"/>
              <a:ext cx="8470800" cy="62740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b66ba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79440" y="347760"/>
              <a:ext cx="8385120" cy="6164280"/>
            </a:xfrm>
            <a:prstGeom prst="rect">
              <a:avLst/>
            </a:prstGeom>
            <a:gradFill rotWithShape="0">
              <a:gsLst>
                <a:gs pos="0">
                  <a:srgbClr val="4b66ba"/>
                </a:gs>
                <a:gs pos="5000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4440" y="520560"/>
              <a:ext cx="8115120" cy="581688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0956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Electrochemistr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81080" y="3800520"/>
            <a:ext cx="6629400" cy="205740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2690640"/>
            <a:ext cx="992160" cy="2568600"/>
          </a:xfrm>
          <a:custGeom>
            <a:avLst/>
            <a:gdLst/>
            <a:ahLst/>
            <a:rect l="l" t="t" r="r" b="b"/>
            <a:pathLst>
              <a:path w="625" h="1618">
                <a:moveTo>
                  <a:pt x="432" y="1617"/>
                </a:moveTo>
                <a:lnTo>
                  <a:pt x="0" y="1617"/>
                </a:lnTo>
                <a:lnTo>
                  <a:pt x="0" y="225"/>
                </a:lnTo>
                <a:lnTo>
                  <a:pt x="30" y="138"/>
                </a:lnTo>
                <a:lnTo>
                  <a:pt x="75" y="69"/>
                </a:lnTo>
                <a:lnTo>
                  <a:pt x="126" y="24"/>
                </a:lnTo>
                <a:lnTo>
                  <a:pt x="201" y="0"/>
                </a:lnTo>
                <a:lnTo>
                  <a:pt x="264" y="3"/>
                </a:lnTo>
                <a:lnTo>
                  <a:pt x="324" y="30"/>
                </a:lnTo>
                <a:lnTo>
                  <a:pt x="372" y="66"/>
                </a:lnTo>
                <a:lnTo>
                  <a:pt x="408" y="126"/>
                </a:lnTo>
                <a:lnTo>
                  <a:pt x="432" y="225"/>
                </a:lnTo>
                <a:lnTo>
                  <a:pt x="432" y="321"/>
                </a:lnTo>
                <a:lnTo>
                  <a:pt x="624" y="321"/>
                </a:lnTo>
                <a:lnTo>
                  <a:pt x="621" y="447"/>
                </a:lnTo>
                <a:lnTo>
                  <a:pt x="432" y="447"/>
                </a:lnTo>
                <a:lnTo>
                  <a:pt x="432" y="1617"/>
                </a:lnTo>
              </a:path>
            </a:pathLst>
          </a:custGeom>
          <a:solidFill>
            <a:srgbClr val="c1ce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19640" y="3295800"/>
            <a:ext cx="301680" cy="2647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97040" y="3559320"/>
            <a:ext cx="303120" cy="15015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63640" y="2060280"/>
            <a:ext cx="0" cy="1498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30680" y="1531800"/>
            <a:ext cx="16128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768" swAng="5406768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768" swAng="5406768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90720" y="3473280"/>
            <a:ext cx="6859440" cy="2471760"/>
            <a:chOff x="990720" y="3473280"/>
            <a:chExt cx="6859440" cy="2471760"/>
          </a:xfrm>
        </p:grpSpPr>
        <p:sp>
          <p:nvSpPr>
            <p:cNvPr id="185" name=""/>
            <p:cNvSpPr/>
            <p:nvPr/>
          </p:nvSpPr>
          <p:spPr>
            <a:xfrm>
              <a:off x="990720" y="3473280"/>
              <a:ext cx="3430440" cy="2471760"/>
            </a:xfrm>
            <a:custGeom>
              <a:avLst/>
              <a:gdLst/>
              <a:ahLst/>
              <a:rect l="l" t="t" r="r" b="b"/>
              <a:pathLst>
                <a:path w="2161" h="1557">
                  <a:moveTo>
                    <a:pt x="0" y="0"/>
                  </a:moveTo>
                  <a:lnTo>
                    <a:pt x="64" y="0"/>
                  </a:lnTo>
                  <a:lnTo>
                    <a:pt x="64" y="56"/>
                  </a:lnTo>
                  <a:lnTo>
                    <a:pt x="64" y="1500"/>
                  </a:lnTo>
                  <a:lnTo>
                    <a:pt x="87" y="1535"/>
                  </a:lnTo>
                  <a:lnTo>
                    <a:pt x="127" y="1556"/>
                  </a:lnTo>
                  <a:lnTo>
                    <a:pt x="1398" y="1556"/>
                  </a:lnTo>
                  <a:lnTo>
                    <a:pt x="2160" y="155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473280"/>
              <a:ext cx="3430440" cy="2471760"/>
            </a:xfrm>
            <a:custGeom>
              <a:avLst/>
              <a:gdLst/>
              <a:ahLst/>
              <a:rect l="l" t="t" r="r" b="b"/>
              <a:pathLst>
                <a:path w="2161" h="1557">
                  <a:moveTo>
                    <a:pt x="2160" y="0"/>
                  </a:moveTo>
                  <a:lnTo>
                    <a:pt x="2096" y="0"/>
                  </a:lnTo>
                  <a:lnTo>
                    <a:pt x="2096" y="56"/>
                  </a:lnTo>
                  <a:lnTo>
                    <a:pt x="2096" y="1500"/>
                  </a:lnTo>
                  <a:lnTo>
                    <a:pt x="2073" y="1535"/>
                  </a:lnTo>
                  <a:lnTo>
                    <a:pt x="2033" y="1556"/>
                  </a:lnTo>
                  <a:lnTo>
                    <a:pt x="762" y="1556"/>
                  </a:lnTo>
                  <a:lnTo>
                    <a:pt x="0" y="155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147760" y="4057560"/>
            <a:ext cx="198144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10160" y="524340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 HC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43840" y="2085840"/>
            <a:ext cx="0" cy="3038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3390840"/>
            <a:ext cx="1676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1517760"/>
            <a:ext cx="161244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23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23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2840" y="539640"/>
            <a:ext cx="2425680" cy="12826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64080" y="692280"/>
            <a:ext cx="1663560" cy="5205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68580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Century Schoolbook"/>
              </a:rPr>
              <a:t>0.7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1523880"/>
            <a:ext cx="1003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1523880"/>
            <a:ext cx="1003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76520" y="1405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53040" y="1405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69240" y="5106960"/>
            <a:ext cx="368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59480" y="5416560"/>
            <a:ext cx="13500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73920" y="5630760"/>
            <a:ext cx="13500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07000" y="4925880"/>
            <a:ext cx="9216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83400" y="5273640"/>
            <a:ext cx="9216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31120" y="4630680"/>
            <a:ext cx="9180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07080" y="4344840"/>
            <a:ext cx="9216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11960" y="4164120"/>
            <a:ext cx="92160" cy="9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12120" y="4811760"/>
            <a:ext cx="9216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7640" y="5425920"/>
            <a:ext cx="13500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35880" y="5025960"/>
            <a:ext cx="13500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02400" y="4073400"/>
            <a:ext cx="13968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31200" y="4606920"/>
            <a:ext cx="9180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93040" y="3992400"/>
            <a:ext cx="9180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93120" y="4383000"/>
            <a:ext cx="9180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5238720"/>
            <a:ext cx="2395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 Zn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3280" y="3852720"/>
            <a:ext cx="1171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00920" y="2171520"/>
            <a:ext cx="1199880" cy="11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8400" y="2125800"/>
            <a:ext cx="1040040" cy="785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00520" y="3257640"/>
            <a:ext cx="1814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ath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400640" y="3800520"/>
            <a:ext cx="3309840" cy="212868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2690640"/>
            <a:ext cx="992160" cy="2568600"/>
          </a:xfrm>
          <a:custGeom>
            <a:avLst/>
            <a:gdLst/>
            <a:ahLst/>
            <a:rect l="l" t="t" r="r" b="b"/>
            <a:pathLst>
              <a:path w="625" h="1618">
                <a:moveTo>
                  <a:pt x="432" y="1617"/>
                </a:moveTo>
                <a:lnTo>
                  <a:pt x="0" y="1617"/>
                </a:lnTo>
                <a:lnTo>
                  <a:pt x="0" y="225"/>
                </a:lnTo>
                <a:lnTo>
                  <a:pt x="30" y="138"/>
                </a:lnTo>
                <a:lnTo>
                  <a:pt x="75" y="69"/>
                </a:lnTo>
                <a:lnTo>
                  <a:pt x="126" y="24"/>
                </a:lnTo>
                <a:lnTo>
                  <a:pt x="201" y="0"/>
                </a:lnTo>
                <a:lnTo>
                  <a:pt x="264" y="3"/>
                </a:lnTo>
                <a:lnTo>
                  <a:pt x="324" y="30"/>
                </a:lnTo>
                <a:lnTo>
                  <a:pt x="372" y="66"/>
                </a:lnTo>
                <a:lnTo>
                  <a:pt x="408" y="126"/>
                </a:lnTo>
                <a:lnTo>
                  <a:pt x="432" y="225"/>
                </a:lnTo>
                <a:lnTo>
                  <a:pt x="432" y="321"/>
                </a:lnTo>
                <a:lnTo>
                  <a:pt x="624" y="321"/>
                </a:lnTo>
                <a:lnTo>
                  <a:pt x="621" y="447"/>
                </a:lnTo>
                <a:lnTo>
                  <a:pt x="432" y="447"/>
                </a:lnTo>
                <a:lnTo>
                  <a:pt x="432" y="1617"/>
                </a:lnTo>
              </a:path>
            </a:pathLst>
          </a:custGeom>
          <a:solidFill>
            <a:srgbClr val="c1ce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30680" y="1531800"/>
            <a:ext cx="16128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768" swAng="5406768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768" swAng="5406768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3473280"/>
            <a:ext cx="3430440" cy="2471760"/>
          </a:xfrm>
          <a:custGeom>
            <a:avLst/>
            <a:gdLst/>
            <a:ahLst/>
            <a:rect l="l" t="t" r="r" b="b"/>
            <a:pathLst>
              <a:path w="2161" h="1557">
                <a:moveTo>
                  <a:pt x="2160" y="0"/>
                </a:moveTo>
                <a:lnTo>
                  <a:pt x="2096" y="0"/>
                </a:lnTo>
                <a:lnTo>
                  <a:pt x="2096" y="56"/>
                </a:lnTo>
                <a:lnTo>
                  <a:pt x="2096" y="1500"/>
                </a:lnTo>
                <a:lnTo>
                  <a:pt x="2073" y="1535"/>
                </a:lnTo>
                <a:lnTo>
                  <a:pt x="2033" y="1556"/>
                </a:lnTo>
                <a:lnTo>
                  <a:pt x="762" y="1556"/>
                </a:lnTo>
                <a:lnTo>
                  <a:pt x="0" y="1556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10160" y="524340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 HC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43840" y="2085840"/>
            <a:ext cx="0" cy="3038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69240" y="5106960"/>
            <a:ext cx="368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59480" y="5416560"/>
            <a:ext cx="13500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73920" y="5630760"/>
            <a:ext cx="13500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07000" y="4925880"/>
            <a:ext cx="9216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83400" y="5273640"/>
            <a:ext cx="9216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31120" y="4630680"/>
            <a:ext cx="9180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07080" y="4344840"/>
            <a:ext cx="9216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11960" y="4164120"/>
            <a:ext cx="92160" cy="9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12120" y="4811760"/>
            <a:ext cx="9216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97640" y="5425920"/>
            <a:ext cx="13500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35880" y="5025960"/>
            <a:ext cx="13500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02400" y="4073400"/>
            <a:ext cx="13968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31200" y="4606920"/>
            <a:ext cx="9180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93040" y="3992400"/>
            <a:ext cx="9180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93120" y="4383000"/>
            <a:ext cx="9180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3280" y="3852720"/>
            <a:ext cx="1171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00920" y="2171520"/>
            <a:ext cx="1199880" cy="11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8400" y="2125800"/>
            <a:ext cx="1040040" cy="785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85360" y="680760"/>
            <a:ext cx="79153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tandard Hydrogen Electrode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281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reference all other oxidations are compared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indicates standard states of 25ºC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1 atm, 1 M  solu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240" y="634680"/>
            <a:ext cx="734688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ell Potential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(s) + 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u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tal cell potential is the sum of the potential at each electr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uptial BT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6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Z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 Z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6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C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C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look up reduction potentials in a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reactions must be reversed, so change it sig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ell Potential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the cell potential for a galvanic cell based on the redox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(s) +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   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= 0.77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+2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(s)          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= 0.34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(s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+2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= -0.34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2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= 0.77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Line Notati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eous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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eous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de on the left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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hode on the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line different ph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 line porous disk or salt bri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ll the substances on one side are aqueous, a platinum electrode is indic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last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62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u(s)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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(aq),Fe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t(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Galvanic Cell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action always runs spontaneously in the direction that produced a positive cell potent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things for a complete descrip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 of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ation of anode and cath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e of all the components- electrodes and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ractice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ly describe the galvanic cell based on the following half-reactions under standard con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8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5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4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=1.5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3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(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=0.036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otential, Work and </a:t>
            </a:r>
            <a:r>
              <a:rPr b="1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G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f = potential (V) = work (J) / Charge(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work done by system /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-w/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 is measured in coulom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w = q</a:t>
            </a:r>
            <a:r>
              <a:rPr b="1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aday =  96,485 C/mol 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= nF = moles of 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charge/mole 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= -q</a:t>
            </a:r>
            <a:r>
              <a:rPr b="1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-nF</a:t>
            </a:r>
            <a:r>
              <a:rPr b="1" lang="en-US" sz="3200" spc="-1" strike="noStrike">
                <a:solidFill>
                  <a:srgbClr val="ffffff"/>
                </a:solidFill>
                <a:latin typeface="Nuptial BT"/>
              </a:rPr>
              <a:t>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otential, Work and </a:t>
            </a:r>
            <a:r>
              <a:rPr b="1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G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= -nF</a:t>
            </a:r>
            <a:r>
              <a:rPr b="1" lang="en-US" sz="3200" spc="-1" strike="noStrike">
                <a:solidFill>
                  <a:srgbClr val="ffffff"/>
                </a:solidFill>
                <a:latin typeface="Nuptial BT"/>
              </a:rPr>
              <a:t>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ffffff"/>
                </a:solidFill>
                <a:latin typeface="Nuptial BT"/>
              </a:rPr>
              <a:t>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&lt; 0, the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&gt; 0  non-spont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ffffff"/>
                </a:solidFill>
                <a:latin typeface="Nuptial BT"/>
              </a:rPr>
              <a:t>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&gt; 0, the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&lt; 0 spont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 for the following re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+ Fe(s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(s)+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(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= 0.44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+2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(s)          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= 0.34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ell Potential and Concentrati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1928880"/>
            <a:ext cx="800100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atively - Can predict direction of change in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LeChâteli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l(s) + 3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+ 3Mn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t if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ll be greater or less than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ce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2.0 M and [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1.0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1.0 M and [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2.0 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Review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 reduction reactions involve a transfer of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- R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 Involves Lo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Involves G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O-G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e Electrons Oxi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Electrons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he Nernst Equati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+RTln(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nF</a:t>
            </a:r>
            <a:r>
              <a:rPr b="0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-nF</a:t>
            </a:r>
            <a:r>
              <a:rPr b="0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+ RTln(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8000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º 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T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ln(Q)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n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l(s) + 3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+ 3Mn(s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= 0.48 V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have to figure out n by balanc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concentration can give voltage, then from voltage we can tell concen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he Nernst Equati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1125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reactions proceed concentrations of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ducts increase and reactants decreas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h equilibrium where Q = K 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0 = 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º 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T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ln(K)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n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8000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º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T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ln(K)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n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F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Nuptial BT"/>
              </a:rPr>
              <a:t>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º </a:t>
            </a:r>
            <a:r>
              <a:rPr b="0" lang="en-US" sz="3200" spc="-1" strike="noStrike" u="sng" baseline="-28000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= ln(K)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0040" y="680760"/>
            <a:ext cx="807264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Batteries are Galvanic Cell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47200" y="124308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 batteries are lead storage batte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 +Pb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) +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y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n +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n  +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nO+ M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n b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d +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d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Ni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orrosi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ting - spontaneous oxid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structural metals have reduction potentials that are less positive than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2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= 0.44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+ 4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= 0.40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happens in two pla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43040" y="3857760"/>
            <a:ext cx="1809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6960" y="3838680"/>
            <a:ext cx="2981160" cy="4680"/>
          </a:xfrm>
          <a:prstGeom prst="line">
            <a:avLst/>
          </a:prstGeom>
          <a:ln w="7632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00400" y="2151000"/>
            <a:ext cx="3028320" cy="3377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983"/>
                </a:moveTo>
                <a:arcTo wR="10800" hR="10800" stAng="10741876" swAng="10793475"/>
                <a:lnTo>
                  <a:pt x="10800" y="10800"/>
                </a:lnTo>
                <a:close/>
              </a:path>
              <a:path fill="none" w="21600" h="21600">
                <a:moveTo>
                  <a:pt x="2" y="10983"/>
                </a:moveTo>
                <a:arcTo wR="10800" hR="10800" stAng="10741876" swAng="10793475"/>
              </a:path>
            </a:pathLst>
          </a:custGeom>
          <a:solidFill>
            <a:srgbClr val="618ffd"/>
          </a:solidFill>
          <a:ln cap="rnd"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43240" y="3828960"/>
            <a:ext cx="3024000" cy="809640"/>
          </a:xfrm>
          <a:custGeom>
            <a:avLst/>
            <a:gdLst/>
            <a:ahLst/>
            <a:rect l="l" t="t" r="r" b="b"/>
            <a:pathLst>
              <a:path w="1905" h="510">
                <a:moveTo>
                  <a:pt x="0" y="18"/>
                </a:moveTo>
                <a:lnTo>
                  <a:pt x="171" y="45"/>
                </a:lnTo>
                <a:lnTo>
                  <a:pt x="174" y="184"/>
                </a:lnTo>
                <a:lnTo>
                  <a:pt x="296" y="195"/>
                </a:lnTo>
                <a:lnTo>
                  <a:pt x="292" y="295"/>
                </a:lnTo>
                <a:lnTo>
                  <a:pt x="375" y="286"/>
                </a:lnTo>
                <a:lnTo>
                  <a:pt x="411" y="416"/>
                </a:lnTo>
                <a:lnTo>
                  <a:pt x="470" y="387"/>
                </a:lnTo>
                <a:lnTo>
                  <a:pt x="541" y="384"/>
                </a:lnTo>
                <a:lnTo>
                  <a:pt x="631" y="464"/>
                </a:lnTo>
                <a:lnTo>
                  <a:pt x="753" y="459"/>
                </a:lnTo>
                <a:lnTo>
                  <a:pt x="809" y="423"/>
                </a:lnTo>
                <a:lnTo>
                  <a:pt x="911" y="450"/>
                </a:lnTo>
                <a:lnTo>
                  <a:pt x="988" y="509"/>
                </a:lnTo>
                <a:lnTo>
                  <a:pt x="1046" y="459"/>
                </a:lnTo>
                <a:lnTo>
                  <a:pt x="1075" y="381"/>
                </a:lnTo>
                <a:lnTo>
                  <a:pt x="1205" y="430"/>
                </a:lnTo>
                <a:lnTo>
                  <a:pt x="1227" y="351"/>
                </a:lnTo>
                <a:lnTo>
                  <a:pt x="1304" y="295"/>
                </a:lnTo>
                <a:lnTo>
                  <a:pt x="1434" y="344"/>
                </a:lnTo>
                <a:lnTo>
                  <a:pt x="1441" y="261"/>
                </a:lnTo>
                <a:lnTo>
                  <a:pt x="1491" y="195"/>
                </a:lnTo>
                <a:lnTo>
                  <a:pt x="1578" y="294"/>
                </a:lnTo>
                <a:lnTo>
                  <a:pt x="1599" y="198"/>
                </a:lnTo>
                <a:lnTo>
                  <a:pt x="1621" y="99"/>
                </a:lnTo>
                <a:lnTo>
                  <a:pt x="1644" y="18"/>
                </a:lnTo>
                <a:lnTo>
                  <a:pt x="1904" y="0"/>
                </a:lnTo>
              </a:path>
            </a:pathLst>
          </a:custGeom>
          <a:solidFill>
            <a:srgbClr val="618ffd"/>
          </a:solidFill>
          <a:ln cap="rnd" w="25560">
            <a:solidFill>
              <a:srgbClr val="ff82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5120" y="2971800"/>
            <a:ext cx="1701720" cy="844560"/>
          </a:xfrm>
          <a:custGeom>
            <a:avLst/>
            <a:gdLst/>
            <a:ahLst/>
            <a:rect l="l" t="t" r="r" b="b"/>
            <a:pathLst>
              <a:path w="1072" h="532">
                <a:moveTo>
                  <a:pt x="0" y="531"/>
                </a:moveTo>
                <a:lnTo>
                  <a:pt x="27" y="459"/>
                </a:lnTo>
                <a:lnTo>
                  <a:pt x="45" y="423"/>
                </a:lnTo>
                <a:lnTo>
                  <a:pt x="63" y="369"/>
                </a:lnTo>
                <a:lnTo>
                  <a:pt x="72" y="306"/>
                </a:lnTo>
                <a:lnTo>
                  <a:pt x="99" y="279"/>
                </a:lnTo>
                <a:lnTo>
                  <a:pt x="135" y="243"/>
                </a:lnTo>
                <a:lnTo>
                  <a:pt x="153" y="207"/>
                </a:lnTo>
                <a:lnTo>
                  <a:pt x="207" y="153"/>
                </a:lnTo>
                <a:lnTo>
                  <a:pt x="225" y="99"/>
                </a:lnTo>
                <a:lnTo>
                  <a:pt x="243" y="72"/>
                </a:lnTo>
                <a:lnTo>
                  <a:pt x="270" y="54"/>
                </a:lnTo>
                <a:lnTo>
                  <a:pt x="306" y="36"/>
                </a:lnTo>
                <a:lnTo>
                  <a:pt x="378" y="27"/>
                </a:lnTo>
                <a:lnTo>
                  <a:pt x="432" y="27"/>
                </a:lnTo>
                <a:lnTo>
                  <a:pt x="468" y="9"/>
                </a:lnTo>
                <a:lnTo>
                  <a:pt x="495" y="0"/>
                </a:lnTo>
                <a:lnTo>
                  <a:pt x="522" y="0"/>
                </a:lnTo>
                <a:lnTo>
                  <a:pt x="612" y="27"/>
                </a:lnTo>
                <a:lnTo>
                  <a:pt x="684" y="81"/>
                </a:lnTo>
                <a:lnTo>
                  <a:pt x="711" y="90"/>
                </a:lnTo>
                <a:lnTo>
                  <a:pt x="738" y="144"/>
                </a:lnTo>
                <a:lnTo>
                  <a:pt x="765" y="162"/>
                </a:lnTo>
                <a:lnTo>
                  <a:pt x="783" y="216"/>
                </a:lnTo>
                <a:lnTo>
                  <a:pt x="810" y="252"/>
                </a:lnTo>
                <a:lnTo>
                  <a:pt x="837" y="288"/>
                </a:lnTo>
                <a:lnTo>
                  <a:pt x="846" y="315"/>
                </a:lnTo>
                <a:lnTo>
                  <a:pt x="873" y="342"/>
                </a:lnTo>
                <a:lnTo>
                  <a:pt x="891" y="369"/>
                </a:lnTo>
                <a:lnTo>
                  <a:pt x="909" y="396"/>
                </a:lnTo>
                <a:lnTo>
                  <a:pt x="972" y="423"/>
                </a:lnTo>
                <a:lnTo>
                  <a:pt x="999" y="450"/>
                </a:lnTo>
                <a:lnTo>
                  <a:pt x="1026" y="486"/>
                </a:lnTo>
                <a:lnTo>
                  <a:pt x="1071" y="531"/>
                </a:lnTo>
                <a:lnTo>
                  <a:pt x="0" y="531"/>
                </a:lnTo>
              </a:path>
            </a:pathLst>
          </a:custGeom>
          <a:solidFill>
            <a:srgbClr val="ad6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28840" y="2571840"/>
            <a:ext cx="131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64600" y="3174840"/>
            <a:ext cx="102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5246640"/>
            <a:ext cx="4827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ron Dissolves- Fe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F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157480" y="4571640"/>
            <a:ext cx="957240" cy="67140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30760" y="4184640"/>
            <a:ext cx="2143080" cy="128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490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4907"/>
              </a:path>
            </a:pathLst>
          </a:custGeom>
          <a:noFill/>
          <a:ln cap="rnd"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87720" y="4275000"/>
            <a:ext cx="508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8560" y="771480"/>
            <a:ext cx="7915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t speeds up process by increasing condu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reventing Corrosi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ting to keep out air and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vanizing - Putting on a zinc co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lower reduction potential, so it is more. easily oxidi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ying with metals that form oxide coa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hodic Protection - Attaching large pieces of an active metal like magnesium that get oxidized inst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ning a galvanic cell backwa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a voltage bigger than the potential  and reverse the direction of the redox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for electropla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Electrolysi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886200"/>
            <a:ext cx="6629400" cy="205740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33640" y="3881520"/>
            <a:ext cx="3267000" cy="205740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19640" y="3295800"/>
            <a:ext cx="301680" cy="2647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00040" y="3500280"/>
            <a:ext cx="657360" cy="1643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797120" y="2060280"/>
            <a:ext cx="0" cy="1498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98560" y="1531800"/>
            <a:ext cx="161244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23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232"/>
              </a:path>
            </a:pathLst>
          </a:custGeom>
          <a:noFill/>
          <a:ln cap="rnd"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57920" y="3614760"/>
            <a:ext cx="628560" cy="1446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43840" y="2060640"/>
            <a:ext cx="0" cy="158256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30680" y="1531800"/>
            <a:ext cx="16128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768" swAng="5406768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768" swAng="5406768"/>
              </a:path>
            </a:pathLst>
          </a:custGeom>
          <a:noFill/>
          <a:ln cap="rnd"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630520" y="1523880"/>
            <a:ext cx="3720960" cy="504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990720" y="3473280"/>
            <a:ext cx="6859440" cy="2471760"/>
            <a:chOff x="990720" y="3473280"/>
            <a:chExt cx="6859440" cy="2471760"/>
          </a:xfrm>
        </p:grpSpPr>
        <p:sp>
          <p:nvSpPr>
            <p:cNvPr id="296" name=""/>
            <p:cNvSpPr/>
            <p:nvPr/>
          </p:nvSpPr>
          <p:spPr>
            <a:xfrm>
              <a:off x="990720" y="3473280"/>
              <a:ext cx="3430440" cy="2471760"/>
            </a:xfrm>
            <a:custGeom>
              <a:avLst/>
              <a:gdLst/>
              <a:ahLst/>
              <a:rect l="l" t="t" r="r" b="b"/>
              <a:pathLst>
                <a:path w="2161" h="1557">
                  <a:moveTo>
                    <a:pt x="0" y="0"/>
                  </a:moveTo>
                  <a:lnTo>
                    <a:pt x="64" y="0"/>
                  </a:lnTo>
                  <a:lnTo>
                    <a:pt x="64" y="56"/>
                  </a:lnTo>
                  <a:lnTo>
                    <a:pt x="64" y="1500"/>
                  </a:lnTo>
                  <a:lnTo>
                    <a:pt x="87" y="1535"/>
                  </a:lnTo>
                  <a:lnTo>
                    <a:pt x="127" y="1556"/>
                  </a:lnTo>
                  <a:lnTo>
                    <a:pt x="1398" y="1556"/>
                  </a:lnTo>
                  <a:lnTo>
                    <a:pt x="2160" y="155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19720" y="3473280"/>
              <a:ext cx="3430440" cy="2471760"/>
            </a:xfrm>
            <a:custGeom>
              <a:avLst/>
              <a:gdLst/>
              <a:ahLst/>
              <a:rect l="l" t="t" r="r" b="b"/>
              <a:pathLst>
                <a:path w="2161" h="1557">
                  <a:moveTo>
                    <a:pt x="2160" y="0"/>
                  </a:moveTo>
                  <a:lnTo>
                    <a:pt x="2096" y="0"/>
                  </a:lnTo>
                  <a:lnTo>
                    <a:pt x="2096" y="56"/>
                  </a:lnTo>
                  <a:lnTo>
                    <a:pt x="2096" y="1500"/>
                  </a:lnTo>
                  <a:lnTo>
                    <a:pt x="2073" y="1535"/>
                  </a:lnTo>
                  <a:lnTo>
                    <a:pt x="2033" y="1556"/>
                  </a:lnTo>
                  <a:lnTo>
                    <a:pt x="762" y="1556"/>
                  </a:lnTo>
                  <a:lnTo>
                    <a:pt x="0" y="155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376360" y="4829040"/>
            <a:ext cx="198144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1.0 M Zn</a:t>
            </a:r>
            <a:r>
              <a:rPr b="0" lang="en-US" sz="4000" spc="-1" strike="noStrike" baseline="30000">
                <a:solidFill>
                  <a:srgbClr val="00279f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00360" y="2028960"/>
            <a:ext cx="0" cy="164304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75248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24480" y="167652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62320" y="5919840"/>
            <a:ext cx="1676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19760" y="5905440"/>
            <a:ext cx="1904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ath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49800" y="492120"/>
            <a:ext cx="2444400" cy="14158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21160" y="1325520"/>
            <a:ext cx="330120" cy="35892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0720" y="1325520"/>
            <a:ext cx="330120" cy="35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86000" y="1528920"/>
            <a:ext cx="31428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472000" y="1523880"/>
            <a:ext cx="338400" cy="50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92680" y="706320"/>
            <a:ext cx="1444320" cy="50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86280" y="671400"/>
            <a:ext cx="1214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1.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93920" y="4289400"/>
            <a:ext cx="65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89160" y="4384800"/>
            <a:ext cx="70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57760" y="4781520"/>
            <a:ext cx="198108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0 M 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 flipV="1">
            <a:off x="2630520" y="1523880"/>
            <a:ext cx="3720960" cy="504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63840" y="620640"/>
            <a:ext cx="2330640" cy="2230560"/>
          </a:xfrm>
          <a:prstGeom prst="rect">
            <a:avLst/>
          </a:prstGeom>
          <a:solidFill>
            <a:srgbClr val="ad69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886200"/>
            <a:ext cx="6629400" cy="205740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33640" y="3881520"/>
            <a:ext cx="3267000" cy="205740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76360" y="4829040"/>
            <a:ext cx="198144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1.0 M Zn</a:t>
            </a:r>
            <a:r>
              <a:rPr b="0" lang="en-US" sz="4000" spc="-1" strike="noStrike" baseline="30000">
                <a:solidFill>
                  <a:srgbClr val="00279f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19640" y="3295800"/>
            <a:ext cx="301680" cy="2647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00040" y="3500280"/>
            <a:ext cx="657360" cy="1643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98560" y="1531800"/>
            <a:ext cx="161244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23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232"/>
              </a:path>
            </a:pathLst>
          </a:custGeom>
          <a:noFill/>
          <a:ln cap="rnd"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57920" y="3614760"/>
            <a:ext cx="628560" cy="1446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43840" y="2060640"/>
            <a:ext cx="0" cy="158256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30680" y="1531800"/>
            <a:ext cx="16128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768" swAng="5406768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768" swAng="5406768"/>
              </a:path>
            </a:pathLst>
          </a:custGeom>
          <a:noFill/>
          <a:ln cap="rnd"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90720" y="3473280"/>
            <a:ext cx="6859440" cy="2471760"/>
            <a:chOff x="990720" y="3473280"/>
            <a:chExt cx="6859440" cy="2471760"/>
          </a:xfrm>
        </p:grpSpPr>
        <p:sp>
          <p:nvSpPr>
            <p:cNvPr id="326" name=""/>
            <p:cNvSpPr/>
            <p:nvPr/>
          </p:nvSpPr>
          <p:spPr>
            <a:xfrm>
              <a:off x="990720" y="3473280"/>
              <a:ext cx="3430440" cy="2471760"/>
            </a:xfrm>
            <a:custGeom>
              <a:avLst/>
              <a:gdLst/>
              <a:ahLst/>
              <a:rect l="l" t="t" r="r" b="b"/>
              <a:pathLst>
                <a:path w="2161" h="1557">
                  <a:moveTo>
                    <a:pt x="0" y="0"/>
                  </a:moveTo>
                  <a:lnTo>
                    <a:pt x="64" y="0"/>
                  </a:lnTo>
                  <a:lnTo>
                    <a:pt x="64" y="56"/>
                  </a:lnTo>
                  <a:lnTo>
                    <a:pt x="64" y="1500"/>
                  </a:lnTo>
                  <a:lnTo>
                    <a:pt x="87" y="1535"/>
                  </a:lnTo>
                  <a:lnTo>
                    <a:pt x="127" y="1556"/>
                  </a:lnTo>
                  <a:lnTo>
                    <a:pt x="1398" y="1556"/>
                  </a:lnTo>
                  <a:lnTo>
                    <a:pt x="2160" y="155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3473280"/>
              <a:ext cx="3430440" cy="2471760"/>
            </a:xfrm>
            <a:custGeom>
              <a:avLst/>
              <a:gdLst/>
              <a:ahLst/>
              <a:rect l="l" t="t" r="r" b="b"/>
              <a:pathLst>
                <a:path w="2161" h="1557">
                  <a:moveTo>
                    <a:pt x="2160" y="0"/>
                  </a:moveTo>
                  <a:lnTo>
                    <a:pt x="2096" y="0"/>
                  </a:lnTo>
                  <a:lnTo>
                    <a:pt x="2096" y="56"/>
                  </a:lnTo>
                  <a:lnTo>
                    <a:pt x="2096" y="1500"/>
                  </a:lnTo>
                  <a:lnTo>
                    <a:pt x="2073" y="1535"/>
                  </a:lnTo>
                  <a:lnTo>
                    <a:pt x="2033" y="1556"/>
                  </a:lnTo>
                  <a:lnTo>
                    <a:pt x="762" y="1556"/>
                  </a:lnTo>
                  <a:lnTo>
                    <a:pt x="0" y="155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814400" y="2043000"/>
            <a:ext cx="0" cy="145728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175248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4480" y="167652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33840" y="5919840"/>
            <a:ext cx="167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19480" y="5905440"/>
            <a:ext cx="1904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ath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21160" y="1325520"/>
            <a:ext cx="330120" cy="35892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30720" y="1325520"/>
            <a:ext cx="330120" cy="35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86000" y="1528920"/>
            <a:ext cx="31428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472000" y="1523880"/>
            <a:ext cx="338400" cy="50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71840" y="1628640"/>
            <a:ext cx="2314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 battery &gt;1.10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3920" y="4289400"/>
            <a:ext cx="65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89160" y="4384800"/>
            <a:ext cx="70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57760" y="4781520"/>
            <a:ext cx="198108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0 M 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alculating plating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to count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current 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in ampe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amp = 1 coulomb of charge per 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= 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/nF = moles of m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plated m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must 5.00 amp current be applied to produce 10.5 g of Ag from A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Application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ng electrons is electric cur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5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5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5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4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s to break the reactions into half re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5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4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(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same mixture it happens without doing work, but when separat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Other use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ysis of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erating mixtures of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sitive reduction potential means the reaction proceeds forwa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negative reduction potential is easiest to plate out of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Do you have any books on electricity?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t we have is not curren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might shed some light on the subject. Wire you asking?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5120" y="4267080"/>
            <a:ext cx="1662120" cy="165744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809880"/>
            <a:ext cx="1830240" cy="2135160"/>
          </a:xfrm>
          <a:custGeom>
            <a:avLst/>
            <a:gdLst/>
            <a:ahLst/>
            <a:rect l="l" t="t" r="r" b="b"/>
            <a:pathLst>
              <a:path w="1153" h="1345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48" y="1296"/>
                </a:lnTo>
                <a:lnTo>
                  <a:pt x="66" y="1326"/>
                </a:lnTo>
                <a:lnTo>
                  <a:pt x="96" y="1344"/>
                </a:lnTo>
                <a:lnTo>
                  <a:pt x="1056" y="1344"/>
                </a:lnTo>
                <a:lnTo>
                  <a:pt x="1086" y="1323"/>
                </a:lnTo>
                <a:lnTo>
                  <a:pt x="1104" y="1305"/>
                </a:lnTo>
                <a:lnTo>
                  <a:pt x="1104" y="48"/>
                </a:lnTo>
                <a:lnTo>
                  <a:pt x="1104" y="0"/>
                </a:lnTo>
                <a:lnTo>
                  <a:pt x="1152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3886200"/>
            <a:ext cx="228600" cy="12952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209680" y="3200040"/>
            <a:ext cx="0" cy="685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11480" y="2744640"/>
            <a:ext cx="1218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743200"/>
            <a:ext cx="1904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29400" y="4267080"/>
            <a:ext cx="1662120" cy="165744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3809880"/>
            <a:ext cx="1830600" cy="2135160"/>
          </a:xfrm>
          <a:custGeom>
            <a:avLst/>
            <a:gdLst/>
            <a:ahLst/>
            <a:rect l="l" t="t" r="r" b="b"/>
            <a:pathLst>
              <a:path w="1153" h="1345">
                <a:moveTo>
                  <a:pt x="1152" y="0"/>
                </a:moveTo>
                <a:lnTo>
                  <a:pt x="1104" y="0"/>
                </a:lnTo>
                <a:lnTo>
                  <a:pt x="1104" y="48"/>
                </a:lnTo>
                <a:lnTo>
                  <a:pt x="1104" y="1296"/>
                </a:lnTo>
                <a:lnTo>
                  <a:pt x="1086" y="1326"/>
                </a:lnTo>
                <a:lnTo>
                  <a:pt x="1056" y="1344"/>
                </a:lnTo>
                <a:lnTo>
                  <a:pt x="96" y="1344"/>
                </a:lnTo>
                <a:lnTo>
                  <a:pt x="66" y="1323"/>
                </a:lnTo>
                <a:lnTo>
                  <a:pt x="48" y="1305"/>
                </a:lnTo>
                <a:lnTo>
                  <a:pt x="48" y="48"/>
                </a:lnTo>
                <a:lnTo>
                  <a:pt x="48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3886200"/>
            <a:ext cx="228600" cy="12952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086600" y="3200040"/>
            <a:ext cx="0" cy="685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440" y="2744640"/>
            <a:ext cx="12182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72000" y="2743200"/>
            <a:ext cx="190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15440" y="4749840"/>
            <a:ext cx="132660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78800" y="5130720"/>
            <a:ext cx="994320" cy="6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1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ed this way the reaction st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stops quickly because charge builds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5120" y="4267080"/>
            <a:ext cx="1662120" cy="165744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3581280"/>
            <a:ext cx="228600" cy="9144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90960" y="4267080"/>
            <a:ext cx="1662120" cy="165744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657600"/>
            <a:ext cx="228600" cy="8380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6576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809880"/>
            <a:ext cx="1830240" cy="2135160"/>
          </a:xfrm>
          <a:custGeom>
            <a:avLst/>
            <a:gdLst/>
            <a:ahLst/>
            <a:rect l="l" t="t" r="r" b="b"/>
            <a:pathLst>
              <a:path w="1153" h="1345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48" y="1296"/>
                </a:lnTo>
                <a:lnTo>
                  <a:pt x="66" y="1326"/>
                </a:lnTo>
                <a:lnTo>
                  <a:pt x="96" y="1344"/>
                </a:lnTo>
                <a:lnTo>
                  <a:pt x="1056" y="1344"/>
                </a:lnTo>
                <a:lnTo>
                  <a:pt x="1086" y="1323"/>
                </a:lnTo>
                <a:lnTo>
                  <a:pt x="1104" y="1305"/>
                </a:lnTo>
                <a:lnTo>
                  <a:pt x="1104" y="48"/>
                </a:lnTo>
                <a:lnTo>
                  <a:pt x="1104" y="0"/>
                </a:lnTo>
                <a:lnTo>
                  <a:pt x="1152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3886200"/>
            <a:ext cx="228600" cy="12952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09680" y="25909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1480" y="2135160"/>
            <a:ext cx="1218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2133720"/>
            <a:ext cx="1904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809880"/>
            <a:ext cx="1830240" cy="2135160"/>
          </a:xfrm>
          <a:custGeom>
            <a:avLst/>
            <a:gdLst/>
            <a:ahLst/>
            <a:rect l="l" t="t" r="r" b="b"/>
            <a:pathLst>
              <a:path w="1153" h="1345">
                <a:moveTo>
                  <a:pt x="1152" y="0"/>
                </a:moveTo>
                <a:lnTo>
                  <a:pt x="1104" y="0"/>
                </a:lnTo>
                <a:lnTo>
                  <a:pt x="1104" y="48"/>
                </a:lnTo>
                <a:lnTo>
                  <a:pt x="1104" y="1296"/>
                </a:lnTo>
                <a:lnTo>
                  <a:pt x="1086" y="1326"/>
                </a:lnTo>
                <a:lnTo>
                  <a:pt x="1056" y="1344"/>
                </a:lnTo>
                <a:lnTo>
                  <a:pt x="96" y="1344"/>
                </a:lnTo>
                <a:lnTo>
                  <a:pt x="66" y="1323"/>
                </a:lnTo>
                <a:lnTo>
                  <a:pt x="48" y="1305"/>
                </a:lnTo>
                <a:lnTo>
                  <a:pt x="48" y="48"/>
                </a:lnTo>
                <a:lnTo>
                  <a:pt x="48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3886200"/>
            <a:ext cx="228600" cy="12952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248520" y="25909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30640" y="2135160"/>
            <a:ext cx="12189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733560" y="2133720"/>
            <a:ext cx="1904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15440" y="4749840"/>
            <a:ext cx="132660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40720" y="5130720"/>
            <a:ext cx="994320" cy="6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560" y="2592360"/>
            <a:ext cx="2361960" cy="21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4"/>
                </a:moveTo>
                <a:arcTo wR="10800" hR="10800" stAng="-10794835" swAng="10851728"/>
                <a:lnTo>
                  <a:pt x="10800" y="10800"/>
                </a:lnTo>
                <a:close/>
              </a:path>
              <a:path fill="none" w="21600" h="21600">
                <a:moveTo>
                  <a:pt x="0" y="10784"/>
                </a:moveTo>
                <a:arcTo wR="10800" hR="10800" stAng="-10794835" swAng="10851728"/>
              </a:path>
            </a:pathLst>
          </a:custGeom>
          <a:solidFill>
            <a:srgbClr val="fafd00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000" y="2744640"/>
            <a:ext cx="1981080" cy="181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1"/>
                </a:moveTo>
                <a:arcTo wR="10800" hR="10800" stAng="-10793985" swAng="10848205"/>
                <a:lnTo>
                  <a:pt x="10800" y="10800"/>
                </a:lnTo>
                <a:close/>
              </a:path>
              <a:path fill="none" w="21600" h="21600">
                <a:moveTo>
                  <a:pt x="0" y="10781"/>
                </a:moveTo>
                <a:arcTo wR="10800" hR="10800" stAng="-10793985" swAng="10848205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36576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36576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36576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Galvanic Cell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1520" y="1670040"/>
            <a:ext cx="1765440" cy="2529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alt Bridge allows current to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257440" y="2438280"/>
            <a:ext cx="1600200" cy="60984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05120" y="4267080"/>
            <a:ext cx="1662120" cy="165744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581280"/>
            <a:ext cx="228600" cy="9144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90960" y="4267080"/>
            <a:ext cx="1662120" cy="165744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3657600"/>
            <a:ext cx="228600" cy="8380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36576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809880"/>
            <a:ext cx="1830240" cy="2135160"/>
          </a:xfrm>
          <a:custGeom>
            <a:avLst/>
            <a:gdLst/>
            <a:ahLst/>
            <a:rect l="l" t="t" r="r" b="b"/>
            <a:pathLst>
              <a:path w="1153" h="1345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48" y="1296"/>
                </a:lnTo>
                <a:lnTo>
                  <a:pt x="66" y="1326"/>
                </a:lnTo>
                <a:lnTo>
                  <a:pt x="96" y="1344"/>
                </a:lnTo>
                <a:lnTo>
                  <a:pt x="1056" y="1344"/>
                </a:lnTo>
                <a:lnTo>
                  <a:pt x="1086" y="1323"/>
                </a:lnTo>
                <a:lnTo>
                  <a:pt x="1104" y="1305"/>
                </a:lnTo>
                <a:lnTo>
                  <a:pt x="1104" y="48"/>
                </a:lnTo>
                <a:lnTo>
                  <a:pt x="1104" y="0"/>
                </a:lnTo>
                <a:lnTo>
                  <a:pt x="1152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3886200"/>
            <a:ext cx="228600" cy="12952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09680" y="25909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11480" y="2135160"/>
            <a:ext cx="1218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2133720"/>
            <a:ext cx="1904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3809880"/>
            <a:ext cx="1830240" cy="2135160"/>
          </a:xfrm>
          <a:custGeom>
            <a:avLst/>
            <a:gdLst/>
            <a:ahLst/>
            <a:rect l="l" t="t" r="r" b="b"/>
            <a:pathLst>
              <a:path w="1153" h="1345">
                <a:moveTo>
                  <a:pt x="1152" y="0"/>
                </a:moveTo>
                <a:lnTo>
                  <a:pt x="1104" y="0"/>
                </a:lnTo>
                <a:lnTo>
                  <a:pt x="1104" y="48"/>
                </a:lnTo>
                <a:lnTo>
                  <a:pt x="1104" y="1296"/>
                </a:lnTo>
                <a:lnTo>
                  <a:pt x="1086" y="1326"/>
                </a:lnTo>
                <a:lnTo>
                  <a:pt x="1056" y="1344"/>
                </a:lnTo>
                <a:lnTo>
                  <a:pt x="96" y="1344"/>
                </a:lnTo>
                <a:lnTo>
                  <a:pt x="66" y="1323"/>
                </a:lnTo>
                <a:lnTo>
                  <a:pt x="48" y="1305"/>
                </a:lnTo>
                <a:lnTo>
                  <a:pt x="48" y="48"/>
                </a:lnTo>
                <a:lnTo>
                  <a:pt x="48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886200"/>
            <a:ext cx="228600" cy="12952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248520" y="25909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30640" y="2135160"/>
            <a:ext cx="12189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733560" y="2133720"/>
            <a:ext cx="1904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15440" y="4749840"/>
            <a:ext cx="132660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40720" y="5130720"/>
            <a:ext cx="994320" cy="6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560" y="2592360"/>
            <a:ext cx="2361960" cy="21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4"/>
                </a:moveTo>
                <a:arcTo wR="10800" hR="10800" stAng="-10794835" swAng="10851728"/>
                <a:lnTo>
                  <a:pt x="10800" y="10800"/>
                </a:lnTo>
                <a:close/>
              </a:path>
              <a:path fill="none" w="21600" h="21600">
                <a:moveTo>
                  <a:pt x="0" y="10784"/>
                </a:moveTo>
                <a:arcTo wR="10800" hR="10800" stAng="-10794835" swAng="10851728"/>
              </a:path>
            </a:pathLst>
          </a:custGeom>
          <a:solidFill>
            <a:srgbClr val="fafd00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0" y="2744640"/>
            <a:ext cx="1981080" cy="181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1"/>
                </a:moveTo>
                <a:arcTo wR="10800" hR="10800" stAng="-10793985" swAng="10848205"/>
                <a:lnTo>
                  <a:pt x="10800" y="10800"/>
                </a:lnTo>
                <a:close/>
              </a:path>
              <a:path fill="none" w="21600" h="21600">
                <a:moveTo>
                  <a:pt x="0" y="10781"/>
                </a:moveTo>
                <a:arcTo wR="10800" hR="10800" stAng="-10793985" swAng="10848205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6576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6576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36576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511360" y="3547080"/>
            <a:ext cx="711360" cy="1244160"/>
            <a:chOff x="2511360" y="3547080"/>
            <a:chExt cx="711360" cy="1244160"/>
          </a:xfrm>
        </p:grpSpPr>
        <p:grpSp>
          <p:nvGrpSpPr>
            <p:cNvPr id="115" name=""/>
            <p:cNvGrpSpPr/>
            <p:nvPr/>
          </p:nvGrpSpPr>
          <p:grpSpPr>
            <a:xfrm>
              <a:off x="2580480" y="3650400"/>
              <a:ext cx="452520" cy="1140840"/>
              <a:chOff x="2580480" y="3650400"/>
              <a:chExt cx="452520" cy="114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2808360" y="4029120"/>
                <a:ext cx="12600" cy="76212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6140000">
                <a:off x="2584440" y="3654000"/>
                <a:ext cx="444600" cy="444600"/>
              </a:xfrm>
              <a:prstGeom prst="ellipse">
                <a:avLst/>
              </a:prstGeom>
              <a:solidFill>
                <a:srgbClr val="ff8203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H="1" rot="16140000">
              <a:off x="2600280" y="3468600"/>
              <a:ext cx="5335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ity travels in a complete circu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of a salt b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505320" y="4495680"/>
            <a:ext cx="75960" cy="53352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4572000"/>
            <a:ext cx="685800" cy="38088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572000"/>
            <a:ext cx="1067040" cy="38088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4495680"/>
            <a:ext cx="75960" cy="53352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4572000"/>
            <a:ext cx="152640" cy="380880"/>
          </a:xfrm>
          <a:prstGeom prst="ellipse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4572000"/>
            <a:ext cx="152280" cy="380880"/>
          </a:xfrm>
          <a:prstGeom prst="ellipse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4267080"/>
            <a:ext cx="1662120" cy="165744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90960" y="4267080"/>
            <a:ext cx="1662120" cy="165744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886200"/>
            <a:ext cx="228600" cy="12952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09680" y="25909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11480" y="2135160"/>
            <a:ext cx="1218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2133720"/>
            <a:ext cx="1904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3886200"/>
            <a:ext cx="228600" cy="12952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248520" y="25909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30640" y="2135160"/>
            <a:ext cx="12189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733560" y="2133720"/>
            <a:ext cx="1904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15440" y="4749840"/>
            <a:ext cx="132660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0720" y="5130720"/>
            <a:ext cx="994320" cy="6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3809880"/>
            <a:ext cx="2516040" cy="2135160"/>
          </a:xfrm>
          <a:custGeom>
            <a:avLst/>
            <a:gdLst/>
            <a:ahLst/>
            <a:rect l="l" t="t" r="r" b="b"/>
            <a:pathLst>
              <a:path w="1585" h="1345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48" y="1296"/>
                </a:lnTo>
                <a:lnTo>
                  <a:pt x="66" y="1326"/>
                </a:lnTo>
                <a:lnTo>
                  <a:pt x="96" y="1344"/>
                </a:lnTo>
                <a:lnTo>
                  <a:pt x="1056" y="1344"/>
                </a:lnTo>
                <a:lnTo>
                  <a:pt x="1080" y="1329"/>
                </a:lnTo>
                <a:lnTo>
                  <a:pt x="1098" y="1299"/>
                </a:lnTo>
                <a:lnTo>
                  <a:pt x="1098" y="747"/>
                </a:lnTo>
                <a:lnTo>
                  <a:pt x="1110" y="726"/>
                </a:lnTo>
                <a:lnTo>
                  <a:pt x="1152" y="720"/>
                </a:lnTo>
                <a:lnTo>
                  <a:pt x="1584" y="72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3809880"/>
            <a:ext cx="763560" cy="763560"/>
          </a:xfrm>
          <a:custGeom>
            <a:avLst/>
            <a:gdLst/>
            <a:ahLst/>
            <a:rect l="l" t="t" r="r" b="b"/>
            <a:pathLst>
              <a:path w="481" h="481">
                <a:moveTo>
                  <a:pt x="480" y="480"/>
                </a:moveTo>
                <a:lnTo>
                  <a:pt x="48" y="480"/>
                </a:lnTo>
                <a:lnTo>
                  <a:pt x="18" y="471"/>
                </a:lnTo>
                <a:lnTo>
                  <a:pt x="0" y="432"/>
                </a:lnTo>
                <a:lnTo>
                  <a:pt x="0" y="48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267080" y="3809880"/>
            <a:ext cx="2363760" cy="2135160"/>
            <a:chOff x="4267080" y="3809880"/>
            <a:chExt cx="2363760" cy="2135160"/>
          </a:xfrm>
        </p:grpSpPr>
        <p:sp>
          <p:nvSpPr>
            <p:cNvPr id="141" name=""/>
            <p:cNvSpPr/>
            <p:nvPr/>
          </p:nvSpPr>
          <p:spPr>
            <a:xfrm>
              <a:off x="4267080" y="3809880"/>
              <a:ext cx="2363760" cy="2135160"/>
            </a:xfrm>
            <a:custGeom>
              <a:avLst/>
              <a:gdLst/>
              <a:ahLst/>
              <a:rect l="l" t="t" r="r" b="b"/>
              <a:pathLst>
                <a:path w="1489" h="1345">
                  <a:moveTo>
                    <a:pt x="1488" y="0"/>
                  </a:moveTo>
                  <a:lnTo>
                    <a:pt x="1440" y="0"/>
                  </a:lnTo>
                  <a:lnTo>
                    <a:pt x="1440" y="48"/>
                  </a:lnTo>
                  <a:lnTo>
                    <a:pt x="1440" y="1296"/>
                  </a:lnTo>
                  <a:lnTo>
                    <a:pt x="1422" y="1326"/>
                  </a:lnTo>
                  <a:lnTo>
                    <a:pt x="1392" y="1344"/>
                  </a:lnTo>
                  <a:lnTo>
                    <a:pt x="432" y="1344"/>
                  </a:lnTo>
                  <a:lnTo>
                    <a:pt x="408" y="1329"/>
                  </a:lnTo>
                  <a:lnTo>
                    <a:pt x="390" y="1299"/>
                  </a:lnTo>
                  <a:lnTo>
                    <a:pt x="390" y="747"/>
                  </a:lnTo>
                  <a:lnTo>
                    <a:pt x="378" y="726"/>
                  </a:lnTo>
                  <a:lnTo>
                    <a:pt x="336" y="720"/>
                  </a:lnTo>
                  <a:lnTo>
                    <a:pt x="0" y="720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7080" y="3809880"/>
              <a:ext cx="611280" cy="763560"/>
            </a:xfrm>
            <a:custGeom>
              <a:avLst/>
              <a:gdLst/>
              <a:ahLst/>
              <a:rect l="l" t="t" r="r" b="b"/>
              <a:pathLst>
                <a:path w="385" h="481">
                  <a:moveTo>
                    <a:pt x="0" y="480"/>
                  </a:moveTo>
                  <a:lnTo>
                    <a:pt x="336" y="480"/>
                  </a:lnTo>
                  <a:lnTo>
                    <a:pt x="366" y="471"/>
                  </a:lnTo>
                  <a:lnTo>
                    <a:pt x="384" y="432"/>
                  </a:lnTo>
                  <a:lnTo>
                    <a:pt x="384" y="48"/>
                  </a:lnTo>
                  <a:lnTo>
                    <a:pt x="384" y="0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4114800" y="1980720"/>
            <a:ext cx="1143000" cy="266724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1320" y="907920"/>
            <a:ext cx="1603440" cy="1067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Porous D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3886200"/>
            <a:ext cx="6629400" cy="205740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19640" y="3295800"/>
            <a:ext cx="301680" cy="2647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7040" y="3559320"/>
            <a:ext cx="303120" cy="15015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97120" y="2060280"/>
            <a:ext cx="0" cy="1498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98560" y="1531800"/>
            <a:ext cx="161244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23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232"/>
              </a:path>
            </a:pathLst>
          </a:custGeom>
          <a:noFill/>
          <a:ln cap="rnd"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40440" y="3559320"/>
            <a:ext cx="303480" cy="15015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43840" y="2060640"/>
            <a:ext cx="0" cy="106344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30680" y="1531800"/>
            <a:ext cx="16128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768" swAng="5406768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768" swAng="5406768"/>
              </a:path>
            </a:pathLst>
          </a:custGeom>
          <a:noFill/>
          <a:ln cap="rnd"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616120" y="1523880"/>
            <a:ext cx="3721320" cy="504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90720" y="3473280"/>
            <a:ext cx="6859440" cy="2471760"/>
            <a:chOff x="990720" y="3473280"/>
            <a:chExt cx="6859440" cy="2471760"/>
          </a:xfrm>
        </p:grpSpPr>
        <p:sp>
          <p:nvSpPr>
            <p:cNvPr id="155" name=""/>
            <p:cNvSpPr/>
            <p:nvPr/>
          </p:nvSpPr>
          <p:spPr>
            <a:xfrm>
              <a:off x="990720" y="3473280"/>
              <a:ext cx="3430440" cy="2471760"/>
            </a:xfrm>
            <a:custGeom>
              <a:avLst/>
              <a:gdLst/>
              <a:ahLst/>
              <a:rect l="l" t="t" r="r" b="b"/>
              <a:pathLst>
                <a:path w="2161" h="1557">
                  <a:moveTo>
                    <a:pt x="0" y="0"/>
                  </a:moveTo>
                  <a:lnTo>
                    <a:pt x="64" y="0"/>
                  </a:lnTo>
                  <a:lnTo>
                    <a:pt x="64" y="56"/>
                  </a:lnTo>
                  <a:lnTo>
                    <a:pt x="64" y="1500"/>
                  </a:lnTo>
                  <a:lnTo>
                    <a:pt x="87" y="1535"/>
                  </a:lnTo>
                  <a:lnTo>
                    <a:pt x="127" y="1556"/>
                  </a:lnTo>
                  <a:lnTo>
                    <a:pt x="1398" y="1556"/>
                  </a:lnTo>
                  <a:lnTo>
                    <a:pt x="2160" y="155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19720" y="3473280"/>
              <a:ext cx="3430440" cy="2471760"/>
            </a:xfrm>
            <a:custGeom>
              <a:avLst/>
              <a:gdLst/>
              <a:ahLst/>
              <a:rect l="l" t="t" r="r" b="b"/>
              <a:pathLst>
                <a:path w="2161" h="1557">
                  <a:moveTo>
                    <a:pt x="2160" y="0"/>
                  </a:moveTo>
                  <a:lnTo>
                    <a:pt x="2096" y="0"/>
                  </a:lnTo>
                  <a:lnTo>
                    <a:pt x="2096" y="56"/>
                  </a:lnTo>
                  <a:lnTo>
                    <a:pt x="2096" y="1500"/>
                  </a:lnTo>
                  <a:lnTo>
                    <a:pt x="2073" y="1535"/>
                  </a:lnTo>
                  <a:lnTo>
                    <a:pt x="2033" y="1556"/>
                  </a:lnTo>
                  <a:lnTo>
                    <a:pt x="762" y="1556"/>
                  </a:lnTo>
                  <a:lnTo>
                    <a:pt x="0" y="155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362320" y="480060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4800600"/>
            <a:ext cx="2210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419112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209320" y="4495680"/>
            <a:ext cx="6858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0240" y="3581280"/>
            <a:ext cx="10666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87400" y="2114640"/>
            <a:ext cx="237960" cy="199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00360" y="2028960"/>
            <a:ext cx="0" cy="126180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1523880"/>
            <a:ext cx="12952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1523880"/>
            <a:ext cx="12952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43840" y="2975040"/>
            <a:ext cx="0" cy="121608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29240" y="3576600"/>
            <a:ext cx="161244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638320" y="4648320"/>
            <a:ext cx="6858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175248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99072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990720"/>
            <a:ext cx="609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167652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403848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3390840"/>
            <a:ext cx="1676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3390840"/>
            <a:ext cx="1904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ath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ell Potential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pulls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 pushes the electr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sh or pull (“driving force”) is called the cell potential </a:t>
            </a:r>
            <a:r>
              <a:rPr b="1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ce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called the electromotive force (emf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is the volt(V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 1 joule of work/coulomb of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with a volt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07T21:34:06Z</dcterms:created>
  <dc:creator/>
  <dc:description/>
  <cp:keywords/>
  <dc:language>en-US</dc:language>
  <cp:lastModifiedBy>FPS</cp:lastModifiedBy>
  <dcterms:modified xsi:type="dcterms:W3CDTF">2008-02-11T13:20:13Z</dcterms:modified>
  <cp:revision>10</cp:revision>
  <dc:subject/>
  <dc:title>Electrochemistry</dc:title>
</cp:coreProperties>
</file>